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766-F04D-4A10-8163-07C55540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C99-F7DD-443F-A23C-DFF05E59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0D1-F2FC-4D51-82CC-6D548367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83D-D129-4FB4-9670-B2CE4F1E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47B78-2625-4FA4-88D9-DAA0F9D2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7DC5E-FD61-4F43-AB28-5DF39372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C5C54-5DFC-4A04-BCB1-95A59790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68B2B-68BF-4C5B-BFFA-0270F827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EA5D5-73DE-42EF-A127-A1B64975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1EC22-10F5-4A86-9DBD-FD5D819F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DE164-31B1-4435-910A-97892ECC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0BD-587D-4F9B-BE1C-96808D7C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1319C-6723-4465-94F2-2E67FAE4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C6E28-8540-4D78-A45D-675859D9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34F60-44DA-4E94-A1FD-13FD4B6F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7F55B-4C05-4A08-B2AE-211BA101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25D55-F050-4D5C-A3DD-95F32AE9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68E08-C7F1-45AC-8061-DFF48419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0DBA8-A0F0-42DE-B3BE-9A8C7DEF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0BCE9-7D7D-4B7A-A6FB-0A2FD810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611EC-EFDF-443B-A54D-8D197371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4C89A-05D9-4408-ADC7-190E07EA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9F5-A60E-4763-904E-505592D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C794A-1897-4CA1-BFE0-0259A61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06A93-60CF-4650-85E2-A417956B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2ADE0-6FF4-4872-82EA-19B2BD42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F3F44-63BA-41D7-9F91-48377F6A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3DE6D-9DA2-4F38-9F5A-8D181F76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F61D6-7691-412A-9734-865B3458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50769-FE6A-4B93-942D-84C8E854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C07B-A0DC-4AE2-AB9B-6B91555C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A59DA-2BDE-43B1-926C-9746D8DE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702A-5F88-4E8C-A6F7-F2007A47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E33-2A47-471E-8407-10851A0A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F09A-6A8F-4B9F-8ED3-E94F49EF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9AE1-2F37-41F2-AE56-EBBC66BF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E1539-2BA1-40DF-AC40-A6B14324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662FD-4555-4E8F-A313-4155BEB5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4EA1-CDC5-4D0B-B91B-1F22CC99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8D0D-FD5B-4A19-B95E-4D296C8E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079F-B4B3-416A-877D-4CAE1528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61240-9808-4702-8EE8-E3C64116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E25F-1C76-4CC3-BE89-3E99E71F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26A-EEDD-471F-A8A0-83D7FA53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917-3FC0-493B-B3ED-BE2BACB4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E9B-C0D3-49B8-BFD5-837A819E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B9A-8079-4D25-AF09-6E92DD06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655-7BA8-4926-BC98-3859E414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045A-9A90-432E-B47C-B1D5D72938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9017-DD0E-4EB8-A004-C9CC29D17A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0358-9E8D-4492-8A25-26C4ABEEF4D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77AE-0F04-4187-9607-6F125344B0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bgnet.mobot.org/" TargetMode="External"/><Relationship Id="rId2" Type="http://schemas.openxmlformats.org/officeDocument/2006/relationships/hyperlink" Target="http://www.blueplanetbiomes.org/world_biomes.htm" TargetMode="External"/><Relationship Id="rId3" Type="http://schemas.openxmlformats.org/officeDocument/2006/relationships/hyperlink" Target="http://www.ucmp.berkeley.edu/exhibits/biomes/ind" TargetMode="External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obot.org/hort/images/Clim1-1.jpg&amp;imgrefurl=http://www.mobot.org/hort/gardens/CLtropfor.shtml&amp;usg=__1UEoDbMwIBJIcm4rOXrCLjkssPI=&amp;h=400&amp;w=420&amp;sz=84&amp;hl=en&amp;start=2&amp;zoom=1&amp;um=1&amp;itbs=1&amp;tbnid=qvl5JYYojgPa9M:&amp;tbnh=119&amp;tbnw=125&amp;prev=/images%3Fq%3Drainforests%26um%3D1%26hl%3Den%26safe%3Dactive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www.celsias.com/media/uploads/admin/african_rainforest2.jpg&amp;imgrefurl=http://www.celsias.com/article/importance-african-forests-carbon-sinks/&amp;usg=__c0rSqngXdm3tdDA83Tuolxn5QPU=&amp;h=480&amp;w=640&amp;sz=68&amp;hl=en&amp;start=6&amp;zoom=1&amp;um=1&amp;itbs=1&amp;tbnid=gXYOB8HKHlBR6M:&amp;tbnh=103&amp;tbnw=137&amp;prev=/images%3Fq%3Drainforests%26um%3D1%26hl%3Den%26safe%3Dactive%26tbs%3Disch:1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xzooberance.com/virtual%2520zoo/they%2520walk/lemur/Lemur%2520485029.jpg&amp;imgrefurl=http://www.exzooberance.com/virtual%2520zoo/they%2520walk/lemur/lemur.htm&amp;usg=__7KO7rIym24bJT84r-HjXMflL1NM=&amp;h=512&amp;w=768&amp;sz=319&amp;hl=en&amp;start=10&amp;zoom=1&amp;itbs=1&amp;tbnid=vAti_nT_ixIgGM:&amp;tbnh=95&amp;tbnw=142&amp;prev=/images%3Fq%3Dlemur%26hl%3Den%26safe%3Dactive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2010vancouver.ca/spidermonkey.jpg&amp;imgrefurl=http://2010vancouver.ca/spider-monkey-killed-missing-from-vancouver-zoo-019759.php&amp;usg=__O7q_FfUPMcwE-_bdM8FnPqR5anc=&amp;h=378&amp;w=360&amp;sz=28&amp;hl=en&amp;start=3&amp;zoom=1&amp;itbs=1&amp;tbnid=L9rqVJStwFaQdM:&amp;tbnh=122&amp;tbnw=116&amp;prev=/images%3Fq%3Dspider%2Bmonkey%26hl%3Den%26safe%3Dactive%26gbv%3D2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nimals.timduru.org/dirlist/jaguar/jaguar-walks_on_grassland.jpg&amp;imgrefurl=http://replantingtherainforests.org/site/index.php/Wildlife/jaguars-caught-in-conservations-spotlight.html&amp;usg=__lnzl3o7xk-5wpmUER4XUq36kNGY=&amp;h=600&amp;w=800&amp;sz=157&amp;hl=en&amp;start=3&amp;zoom=1&amp;itbs=1&amp;tbnid=8JYOyrUs2ACScM:&amp;tbnh=107&amp;tbnw=143&amp;prev=/images%3Fq%3Djaguars%26hl%3Den%26safe%3Dactive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hyperlink" Target="http://images.google.com/imgres?imgurl=http://crowningglory.co.in/coconut_tree5.jpg&amp;imgrefurl=http://crowningglory.co.in/NatInRemyHair.htm&amp;usg=__nWNIpZIUH1GpJlW9u5-uOdpQ-io=&amp;h=450&amp;w=360&amp;sz=148&amp;hl=en&amp;start=7&amp;zoom=1&amp;itbs=1&amp;tbnid=ibAinceI22O2xM:&amp;tbnh=127&amp;tbnw=102&amp;prev=/images%3Fq%3Dcoconut%2Btree%26hl%3Den%26safe%3Dactive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ongabay.com/images/peru/manu/Manu_1023_2431.JPG&amp;imgrefurl=http://travel.mongabay.com/pix/peru/manu-Manu_1023_2431.html&amp;usg=__mpyzX7PrB9NRW43kJsJYUJjcRUg=&amp;h=600&amp;w=400&amp;sz=292&amp;hl=en&amp;start=8&amp;zoom=1&amp;itbs=1&amp;tbnid=c8mo2jvlDNXtIM:&amp;tbnh=135&amp;tbnw=90&amp;prev=/images%3Fq%3Dstrangler%2Bfig%2Btree%26hl%3Den%26safe%3Dactive%26gbv%3D2%26tbs%3Disch: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etterhardwoods.com/wp-content/uploads/2008/09/tualang-tree.jpg&amp;imgrefurl=http://betterhardwoods.com/tualang/&amp;usg=__j9QDSUqitpgDi2VRL9hW6KdQQQY=&amp;h=640&amp;w=428&amp;sz=93&amp;hl=en&amp;start=1&amp;zoom=1&amp;itbs=1&amp;tbnid=STy9BwDjxgMz2M:&amp;tbnh=137&amp;tbnw=92&amp;prev=/images%3Fq%3Dtualang%2Btree%26hl%3Den%26safe%3Dactive%26sa%3DN%26gbv%3D2%26ndsp%3D20%26tbs%3Disch: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295280" y="304920"/>
            <a:ext cx="6553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38160">
                  <a:solidFill>
                    <a:srgbClr val="996633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66ff66"/>
                    </a:gs>
                    <a:gs pos="50000">
                      <a:srgbClr val="996633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ainforest</a:t>
            </a:r>
            <a:endParaRPr b="0" lang="en-US" sz="9600" spc="1" strike="noStrike">
              <a:ln w="38160">
                <a:solidFill>
                  <a:srgbClr val="996633"/>
                </a:solidFill>
                <a:prstDash val="sysDot"/>
                <a:miter/>
              </a:ln>
              <a:gradFill rotWithShape="0">
                <a:gsLst>
                  <a:gs pos="0">
                    <a:srgbClr val="66ff66"/>
                  </a:gs>
                  <a:gs pos="50000">
                    <a:srgbClr val="996633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5562720" cy="3679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5791320" y="21337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onica Sheri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791320" y="3352680"/>
            <a:ext cx="312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ddalyn Erat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91320" y="4343400"/>
            <a:ext cx="312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teven Domingu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er coats of fur so they can withstand the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bility to climb trees so that they can escape from predators and because there are a bunch of 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bility to swim to cool off because it is mild in rainfo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7239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daptations of organisms that live in Rainforest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impact on rainforests are normally never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es are cut down, different plants are used for medicine, and land is torn do to make room for buildings of different typ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nsure safety we can stop tearing up trees and stop taking wild animals from their h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52280" y="0"/>
            <a:ext cx="8686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uman impact on rainforest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d what can be done to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nsure the survival of rainforest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es are used to build ho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s can be used for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are killed for their fur or fea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are also put in zoos for enter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0"/>
            <a:ext cx="8763120" cy="16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rts of rainforest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at are worth mone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one Mammal that lives in the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one Plant that lives in the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one continent that has a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on country that has a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52280"/>
            <a:ext cx="8458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Now for a short qu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one adaptation of an organism so it can be able to survive in the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usual weather in a rainfor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usual tempera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228600"/>
            <a:ext cx="8381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Quiz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mbgnet.mobot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www.blueplanetbiomes.org/world_biomes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www.ucmp.berkeley.edu/exhibits/biomes/i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ex.p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logy the dynamics of life text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0"/>
            <a:ext cx="8458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33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33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ferences</a:t>
            </a:r>
            <a:endParaRPr b="0" lang="en-US" sz="1800" spc="1" strike="noStrike">
              <a:ln w="38160">
                <a:solidFill>
                  <a:srgbClr val="993300"/>
                </a:solidFill>
                <a:prstDash val="sysDot"/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33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addalyn Erato: #1-3 and powerpoin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even Domingues: #4,5,and 9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nica Sherin: #6-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0880" y="228600"/>
            <a:ext cx="8305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o is in charge of wha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e rainfo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Temperature: about 60 degrees Fahrenhe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precipitation: about 100 inches of rain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228600"/>
            <a:ext cx="830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ypes of Rainfore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1676520"/>
            <a:ext cx="4114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pical rainfo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Temperature: about 77 degrees Fahrenh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Precipitation: 80-400 inches of rain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16002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153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nforest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ss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228600"/>
            <a:ext cx="7162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logic Featur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600200"/>
            <a:ext cx="2361960" cy="22478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624560"/>
            <a:ext cx="2971800" cy="2233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0" y="4768920"/>
            <a:ext cx="3733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urs are usually located on Madagasc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urs are usually 2 feet tall not including their ta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urs eat fruit and some Ins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905120" y="152280"/>
            <a:ext cx="6095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463416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emur</a:t>
            </a:r>
            <a:endParaRPr b="0" lang="en-US" sz="1800" spc="1" strike="noStrike">
              <a:ln w="25560">
                <a:solidFill>
                  <a:srgbClr val="463416"/>
                </a:solidFill>
                <a:prstDash val="sysDot"/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4308480"/>
            <a:ext cx="3809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der Monkeys are located in Central and South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der monkeys are usually 15-20 inches tall, not including their ta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der Monkeys eat fruit, nuts, and occasionally ins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600200" y="1522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pider Mon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80160" y="4267080"/>
            <a:ext cx="2463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guars are found in Central and South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guars eat different kinds of animals including de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guars can grow from 5.5 – 8 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92640"/>
            <a:ext cx="3429000" cy="2565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 rot="5400000">
            <a:off x="5752800" y="2857320"/>
            <a:ext cx="57913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9925b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996633"/>
                    </a:gs>
                    <a:gs pos="50000">
                      <a:srgbClr val="000000"/>
                    </a:gs>
                    <a:gs pos="100000">
                      <a:srgbClr val="996633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Jaguars</a:t>
            </a:r>
            <a:endParaRPr b="0" lang="en-US" sz="1800" spc="1" strike="noStrike">
              <a:ln w="25560">
                <a:solidFill>
                  <a:srgbClr val="c9925b"/>
                </a:solidFill>
                <a:prstDash val="sysDot"/>
                <a:miter/>
              </a:ln>
              <a:gradFill rotWithShape="0">
                <a:gsLst>
                  <a:gs pos="0">
                    <a:srgbClr val="996633"/>
                  </a:gs>
                  <a:gs pos="50000">
                    <a:srgbClr val="000000"/>
                  </a:gs>
                  <a:gs pos="100000">
                    <a:srgbClr val="996633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Coconut Tree can produce up to 50 nu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onut tree oil is used in soaps, and margar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ied meat can be used in cake, cookies, and p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19320" y="22860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conut Tre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62840" y="4267080"/>
            <a:ext cx="2081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ngler Figs are one of the most important plants in a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dreds of animals feed on the Strangler Figs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ngler Figs are Tall Canopy T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2286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rangler Fig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70880" y="3962520"/>
            <a:ext cx="1473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ualang can reach up to 250 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ualang have disk shape honeycombs hanging from the side of the t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ualang can produce ho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371600" y="228600"/>
            <a:ext cx="6019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6633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6633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ualang</a:t>
            </a:r>
            <a:endParaRPr b="0" lang="en-US" sz="1800" spc="1" strike="noStrike">
              <a:ln w="25560">
                <a:solidFill>
                  <a:srgbClr val="996633"/>
                </a:solidFill>
                <a:prstDash val="sysDot"/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6633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38920" y="3429000"/>
            <a:ext cx="2305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student</cp:lastModifiedBy>
  <dcterms:modified xsi:type="dcterms:W3CDTF">2010-10-28T13:17:3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